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EED0-2E02-4E70-BCA2-347C42C6A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A1DE-9B4F-4F4B-9326-E36D2E7FB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C313-A62C-4A35-A99A-398391F14A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9BB-F884-4D6D-8AFB-61C6C7ED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288-2E74-476F-B6B6-686DB54A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552-EFEE-4880-B46F-AC6116AF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FAB-74B2-44E2-AF90-B17797DA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0D7-7A58-49F8-8058-68F9D05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31A8-841F-43FA-81DC-2DA0FFF2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59A8-55C6-4755-B4D7-0026F5C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72CE-0419-4A51-A7FB-99416ADC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8202-332B-4546-8532-CDAF8F39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EC03-2B2C-4AF0-A6CF-6E314CB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3AE-F515-4B9E-A5CC-210CD4C3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A2E5-DC97-4166-9897-1E97061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B057-8C1A-45B4-9EA6-8A71A76B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F4F4-8CBC-466B-B922-0E7EFEF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49DE-9B6A-4DFE-8589-3176DCE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E67F-CBB8-4A96-99A9-D426D663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70BB-5236-449D-AF3D-1C5BEF9D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ED02-D2CC-4A8F-824E-CB5F2BE3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9AEB-9B7A-4903-A916-819CD8E5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D877-52C3-4EA0-870E-2990508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096B-7FFA-40C1-AAD5-2673AC4B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03A-610F-471C-B7BF-F22596D0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0EFC-77E8-4B85-818D-608E97BB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1381-0E4A-40C1-8FC3-BFC82542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8D4B-DA5F-406B-8E54-A62A943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8F66-86E5-477E-BD54-37103375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859D0-16B5-4C53-87C8-CFE0BCC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824C-947D-4BD3-BD6F-82752F7C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1ABC-505B-4C25-844C-F0FDCE5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52F9-816E-49D8-BCF1-F1618C52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9D2C-F23F-4AE3-8B78-1C4DE6C5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941-0461-4914-99B9-27F7EF41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E61-76D8-4D61-B155-400061E7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E17-0738-42BC-B8A6-0E7C1313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DBB-3CC0-4631-BF14-B76F9CC3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888-E382-4153-A92E-235E9E8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Practice. Synchronization – 1. UNIX mechanis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CA01-3AEA-4078-8BFA-EE9C255A4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8" name="Рисунок 10" descr=""/>
          <p:cNvPicPr/>
          <p:nvPr/>
        </p:nvPicPr>
        <p:blipFill>
          <a:blip r:embed="rId2"/>
          <a:stretch/>
        </p:blipFill>
        <p:spPr>
          <a:xfrm>
            <a:off x="25560" y="6161040"/>
            <a:ext cx="68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" name="Text Box 1033"/>
          <p:cNvSpPr/>
          <p:nvPr/>
        </p:nvSpPr>
        <p:spPr>
          <a:xfrm>
            <a:off x="9285120" y="6454800"/>
            <a:ext cx="5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2F5-B45A-444B-9CF2-5CEE36B33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985680" y="6408720"/>
            <a:ext cx="191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" name="Text Box 1033"/>
          <p:cNvSpPr/>
          <p:nvPr/>
        </p:nvSpPr>
        <p:spPr>
          <a:xfrm>
            <a:off x="3002040" y="6404040"/>
            <a:ext cx="480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Practice. Synchronization – 1. UNIX mechanisms.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51" name="Рисунок 17" descr=""/>
          <p:cNvPicPr/>
          <p:nvPr/>
        </p:nvPicPr>
        <p:blipFill>
          <a:blip r:embed="rId2"/>
          <a:stretch/>
        </p:blipFill>
        <p:spPr>
          <a:xfrm>
            <a:off x="25560" y="6161040"/>
            <a:ext cx="68400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NNGU_Logo_PNG"/>
          <p:cNvPicPr/>
          <p:nvPr/>
        </p:nvPicPr>
        <p:blipFill>
          <a:blip r:embed="rId2"/>
          <a:stretch/>
        </p:blipFill>
        <p:spPr>
          <a:xfrm>
            <a:off x="128520" y="260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3"/>
          <p:cNvSpPr/>
          <p:nvPr/>
        </p:nvSpPr>
        <p:spPr>
          <a:xfrm>
            <a:off x="0" y="115920"/>
            <a:ext cx="9945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bachevsky State University of Nizhni Novgorod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ational Mathematics and Cybernetics Faculty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Practice. Synchronization – 1. UNIX mechanis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660240" y="1219320"/>
            <a:ext cx="8585280" cy="914400"/>
          </a:xfrm>
          <a:custGeom>
            <a:avLst/>
            <a:gdLst>
              <a:gd name="textAreaLeft" fmla="*/ 0 w 8585280"/>
              <a:gd name="textAreaRight" fmla="*/ 8585640 w 858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255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C0C-212A-40C8-9AD5-81BD80F36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25200" cy="6877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7615080" y="87480"/>
            <a:ext cx="2238480" cy="156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71280" y="87480"/>
            <a:ext cx="2286000" cy="160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5167440" y="87480"/>
            <a:ext cx="24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5"/>
          <a:stretch/>
        </p:blipFill>
        <p:spPr>
          <a:xfrm>
            <a:off x="2440080" y="87480"/>
            <a:ext cx="2655720" cy="1571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6"/>
          <a:stretch/>
        </p:blipFill>
        <p:spPr>
          <a:xfrm>
            <a:off x="239760" y="1785960"/>
            <a:ext cx="185580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8" descr=""/>
          <p:cNvPicPr/>
          <p:nvPr/>
        </p:nvPicPr>
        <p:blipFill>
          <a:blip r:embed="rId7"/>
          <a:stretch/>
        </p:blipFill>
        <p:spPr>
          <a:xfrm>
            <a:off x="1792440" y="1504800"/>
            <a:ext cx="8126280" cy="258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"/>
          <p:cNvPicPr/>
          <p:nvPr/>
        </p:nvPicPr>
        <p:blipFill>
          <a:blip r:embed="rId8"/>
          <a:stretch/>
        </p:blipFill>
        <p:spPr>
          <a:xfrm>
            <a:off x="614520" y="3643200"/>
            <a:ext cx="1123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5 – The program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t threads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“Initial value GlobalVar=%d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 i = 0; i &lt; 10; i ++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create(threads+i, NU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_func, (void*)&amp;GlobalV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identifiers are stored into the threads[]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5 – The pro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 i = 0; i &lt; 10; i ++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join(threads[i],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“Final value GlobalVar=%d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thread_join() we use NULL as the second parameter because we are not interested in thread retur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see the execu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5 – The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9265357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8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uns can produce different final values of Global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omputer CPU and compiler; for some combinations we can always get 1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5 – Conclu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faced exactly the mutual exclus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Var is a shar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threads access it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uns can produce different results depending on relative speed of thr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plement our own synchronization mechanism using well-known algorithms or use existing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X semap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X mut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synchronization mechanis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X semaphore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flag (is the semaphore shared between proce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 creation or o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em_init(sem_t *sem, int pshared, unsigned int va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is initial value of semap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m_t *sem_open(const char *name, int oflag, mode_t mode, unsigned int va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new POSIX semaphore or opens an existing semap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semaphore is identified by a name of the form “/somena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X semapho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em_destroy(sem_t *s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roy the unnamed semaph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em_close(sem_t *s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nnet from semap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em_unlink(const char * 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the semaphore if it is not referenced by othe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ment the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em_wait(sem_t *sem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em_trywait(sem_t *s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em_post(sem_t *s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X mutex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X defines several mutex types and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HREAD_MUTEX_NORMAL – ‘‘ordinary’’ mut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HREAD_MUTEX_RECURSIVE – ‘‘recursive’’ mut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ex owner can lock it sever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HREAD_MUTEX_ERRORCHECK – ‘‘error checking’’ mut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immediately if you try to lock mutex which is owned by another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mutex_init(pthread_mutex_t *mutex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const pthread_mutexattr_t *at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success state of the mutex will be initialized and 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mutex_t def_mutex=PTHREAD_MUTEX_INITIALIZ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MUTEX_INITIALIZER macro can be used only to  statically allocated mutexes to initialize them with default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X mutex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 de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mutex_destroy(pthread_mutex_t *mute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all be safe to destroy an initialized mutex that is un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ing to destroy a locked mutex results in undefined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re the mu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mutex_lock(pthread_mutex_t *mute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mutex_trylock(pthread_mutex_t *mute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the mu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mutex_unlock(pthread_mutex_t *mute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X conditional vari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variables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cond_init(pthread_cond_t *cv, const pthread_condattr_t *catt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tr can be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variables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cond_destroy(pthread_cond_t *c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variables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cond_wait(pthread_cond_t *cv,pthread_mutex_t *mute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cond_signal(pthread_cond_t *c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cond_broadcast(pthread_cond_t *c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with mutex implement monitor’s 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6160" y="3071880"/>
            <a:ext cx="8420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7 Pract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chronization – 1. UNIX mechanis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28400" y="2204640"/>
            <a:ext cx="904716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ng Systems. Support for Parallel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800520" y="559332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v A.V.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ing Department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6 – Multithreaded application with synchron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X, mut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6 – The program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latile int GlobalVa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mutex_t m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* thread_func(void *ar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*address = (int*) ar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 i = 0; i &lt; 100000000; i ++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mutex_lock(&amp;m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address = *address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mutex_unlock(&amp;m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lobalVar is a mutex-protect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6 – The pro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mutex_init(&amp;m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hreads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Waiting for thread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mutex_destroy(&amp;m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 shall be created and initialized before the first concurrent access to the protected resource and destroyed after the las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6 – The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uns will result in the same final value of GlobalV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ur program bec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ti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7 – Multithreaded application with synchron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X, semapho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7 – The program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latile int GlobalVa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_t sem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* thread_func(void *ar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*address = (int*) ar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 i = 0; i &lt; 100000000; i ++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_wait(&amp;sem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address = *address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_post(&amp;sem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lobalVar is a resource protected with binary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7 – The pro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_init(&amp;sem1, 0,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hreads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Waiting for thread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_destroy(&amp;sem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rd parameter of sem_init() cause creation of binary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/destroying semaphore you should follow the same rules as for mut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7 – The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@os-practice]# ./example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 value GlobalVa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 value GlobalVar=1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we always have the same final value of GlobalV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gain this program is much slower then the first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f-training problem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implements the following op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global volatile integer variable GlobalVar with initial valu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value of Global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10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hread must get address of GlobalVar as a function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hread must increment GlobalVar 100 mill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all thread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final value of Global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nd use your own synchroniz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description of some in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f-training probl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same program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indows synchronization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performance of differen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ome UNIX synchroniz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ome Windows synchroniz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your synchroniz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 problem is very important in multithreaded/concurr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study an example of incorrect usage of a globally shared resource and solve the mutual exclusion problem using some inter-process communication mechanisms available in UNIX family of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Silberschatz, Peter B. Galvin and Greg Gagne. Operating System Concepts. 8-th E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S. Tanenbaum. Modern Operating Systems (3rd Edi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ussinovich, David Solomon and Alex Ionescu. Windows Internals (5th Edition) (Developer Re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A. Solomon, Mark Russinovich. The Windows Operating System Internals Curriculum Resource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ey Vladimirovich Linev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Mathematics and Cybernetics Facult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Software Engineering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hie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n@un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5 – Multithreaded application,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UNIX synchronization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6 – Multithreaded application with mutual exclusion problem solved, UNIX, mu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7 – Multithreaded application with mutual exclusion problem solved, UNIX,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5 – Multithreaded ap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5 – The problem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implements the following op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global volatile integer variable GlobalVar with initial valu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value of Global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10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hread must get address of GlobalVar as a function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hread must increment GlobalVar 100 mill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all thread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final value of Global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OSIX Thread-concerned routing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thread_create(pthread_t *ti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pthread_attr_t *tatt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*(*start_routine)(void *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 – pthread_create will save the thread identifier to thi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ttr – pointer to structure with thread attributes, can be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_routine – address of routine to be executed by a new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type of thread routine is fixed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* f(void*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 – argument passed to the thread 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OSIX Thread-concerned routing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thread_exit(void*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 the current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thread_cancel(pthread_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Terminate thread by T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nt pthread_join(thread_t tid, void **status);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thread completion and retrieve it’s return code (status can be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nt pthread_detach(thread_t ti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read completion free its resources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code will not be 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5 – The program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latile int GlobalVa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* thread_func(void *ar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*address = (int*) ar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 i = 0; i &lt; 100000000; i ++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address = *address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Var – an integer variable shared between all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e” qualifier is necessary because function loop will be optimized by compiler otherwise (reduced to *address += 10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0:27:56Z</dcterms:created>
  <dc:creator>Alexey V. Linev</dc:creator>
  <dc:description/>
  <dc:language>en-US</dc:language>
  <cp:lastModifiedBy>alexey</cp:lastModifiedBy>
  <dcterms:modified xsi:type="dcterms:W3CDTF">2014-11-21T05:59:12Z</dcterms:modified>
  <cp:revision>2531</cp:revision>
  <dc:subject>Synchronization – 1. UNIX mechanisms.</dc:subject>
  <dc:title>Operating Systems, 07 Practice</dc:title>
</cp:coreProperties>
</file>