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media/image1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FCAA-399B-4F17-AAAC-F33AECE0F3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D658-A69E-4DB6-8FAC-C3D1583F7A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7B84-9E6C-47D3-BF1F-FAFC65DECC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A53E-3B2B-427B-8077-30FD9EEF2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A788-155C-49D3-A686-530254B3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FFCE-BF71-4C9C-AEFA-65CBF78A9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964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428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00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0964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428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E1D6-360A-4ED4-84B0-5BA85E39F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72520" y="207720"/>
            <a:ext cx="908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5D7B-4516-4D7B-BB63-9CD3846F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964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428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500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0964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428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78C1-8935-4A47-859B-602972DF3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6AC2-9FDF-4D27-83C0-E4222BD3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29FB-565C-4498-864A-091CAD43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9EBA-473C-4335-A012-AB589DA5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AA7E-5C68-4CE6-AA92-FDCB3685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0190-4A38-41C0-940D-DD8EF49B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272520" y="207720"/>
            <a:ext cx="908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4DA3-12EE-44ED-A5BB-50E967BD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F661-D6D3-4F58-AB5F-03CE9AB8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F048-E5CB-49FE-9DC8-987F1770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8BB9-B422-4E0A-8F19-5534F112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D529-044D-4359-8381-10F05B1D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DFB1-EE5D-4C55-BE6D-503A7D87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0964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52428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500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0964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52428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5722-AB58-486B-B81B-C640A4185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C4AFF-A4AD-4F10-B07D-413346E0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1301E-2137-4028-8E00-901D4CF5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63D0E-C9E0-43B9-8F3A-04AC86DE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0F95-48BA-44F5-97B2-AFD589B3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F163B-EDFE-410F-A6BE-6100A4C6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F4D73-9A6E-411B-8A98-973C8766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272520" y="207720"/>
            <a:ext cx="908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65B10-B24D-4EC5-9D47-3ACC54BA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7ECA4-D315-49B5-8EFE-0756F7BE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086DC-5FAB-4847-B038-0E3104D3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0F6D8-11AB-474A-AFE2-2FE13CE2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711D1-DBC7-4153-AB4E-9FA214EA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06784-3231-4745-9C27-4965A5413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0964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52428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00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0964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52428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19774-C75E-4560-AE21-1DCB6B258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98D1-70F4-424D-B87C-CBDDA6EE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272520" y="207720"/>
            <a:ext cx="908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72520" y="207720"/>
            <a:ext cx="908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E721-DC25-4D4B-BF1A-BFBF4709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50964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52428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9500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50964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52428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9979-D4AE-4DE6-AA86-DB021B7C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6836-AC11-47B5-AE8E-F5F39FFB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72BE-013E-4FF6-8F43-56E995D9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8236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N.Novgorod, 20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0780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ing Systems, Support for Parallelis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6 Practice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ndows process and thread cre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84376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CE63-79DF-498A-8B93-92CB7BB2C6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9"/>
          <p:cNvSpPr/>
          <p:nvPr/>
        </p:nvSpPr>
        <p:spPr>
          <a:xfrm>
            <a:off x="973080" y="6381720"/>
            <a:ext cx="873756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" name="Line 12"/>
          <p:cNvSpPr/>
          <p:nvPr/>
        </p:nvSpPr>
        <p:spPr>
          <a:xfrm>
            <a:off x="131760" y="960480"/>
            <a:ext cx="944100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" name="Line 13"/>
          <p:cNvSpPr/>
          <p:nvPr/>
        </p:nvSpPr>
        <p:spPr>
          <a:xfrm>
            <a:off x="131760" y="109440"/>
            <a:ext cx="0" cy="86364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pic>
        <p:nvPicPr>
          <p:cNvPr id="8" name="Рисунок 10" descr=""/>
          <p:cNvPicPr/>
          <p:nvPr/>
        </p:nvPicPr>
        <p:blipFill>
          <a:blip r:embed="rId2"/>
          <a:stretch/>
        </p:blipFill>
        <p:spPr>
          <a:xfrm>
            <a:off x="25560" y="6161040"/>
            <a:ext cx="684000" cy="682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9"/>
          <p:cNvSpPr/>
          <p:nvPr/>
        </p:nvSpPr>
        <p:spPr>
          <a:xfrm>
            <a:off x="973080" y="6381720"/>
            <a:ext cx="873756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6" name="Line 12"/>
          <p:cNvSpPr/>
          <p:nvPr/>
        </p:nvSpPr>
        <p:spPr>
          <a:xfrm>
            <a:off x="131760" y="960480"/>
            <a:ext cx="944100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7" name="Line 13"/>
          <p:cNvSpPr/>
          <p:nvPr/>
        </p:nvSpPr>
        <p:spPr>
          <a:xfrm>
            <a:off x="131760" y="109440"/>
            <a:ext cx="0" cy="86364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8" name="Text Box 1033"/>
          <p:cNvSpPr/>
          <p:nvPr/>
        </p:nvSpPr>
        <p:spPr>
          <a:xfrm>
            <a:off x="9285120" y="6454800"/>
            <a:ext cx="5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5A8E-A97E-4CD7-BB43-14B3CD6841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9" name="Text Box 1033"/>
          <p:cNvSpPr/>
          <p:nvPr/>
        </p:nvSpPr>
        <p:spPr>
          <a:xfrm>
            <a:off x="985680" y="6408720"/>
            <a:ext cx="191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N.Novgorod, 2014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0" name="Text Box 1033"/>
          <p:cNvSpPr/>
          <p:nvPr/>
        </p:nvSpPr>
        <p:spPr>
          <a:xfrm>
            <a:off x="3002040" y="6404040"/>
            <a:ext cx="480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ing Systems, Support for Parallelism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6 Practice. Windows process and thread creation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pic>
        <p:nvPicPr>
          <p:cNvPr id="51" name="Рисунок 17" descr=""/>
          <p:cNvPicPr/>
          <p:nvPr/>
        </p:nvPicPr>
        <p:blipFill>
          <a:blip r:embed="rId2"/>
          <a:stretch/>
        </p:blipFill>
        <p:spPr>
          <a:xfrm>
            <a:off x="25560" y="6161040"/>
            <a:ext cx="684000" cy="6825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3" descr="NNGU_Logo_PNG"/>
          <p:cNvPicPr/>
          <p:nvPr/>
        </p:nvPicPr>
        <p:blipFill>
          <a:blip r:embed="rId2"/>
          <a:stretch/>
        </p:blipFill>
        <p:spPr>
          <a:xfrm>
            <a:off x="128520" y="260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033"/>
          <p:cNvSpPr/>
          <p:nvPr/>
        </p:nvSpPr>
        <p:spPr>
          <a:xfrm>
            <a:off x="0" y="115920"/>
            <a:ext cx="994572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bachevsky State University of Nizhni Novgorod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  <a:p>
            <a:pPr algn="ctr">
              <a:lnSpc>
                <a:spcPct val="12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utational Mathematics and Cybernetics Faculty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N.Novgorod, 20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ing Systems, Support for Parallelis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6 Practice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ndows process and thread cre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7"/>
          <p:cNvSpPr/>
          <p:nvPr/>
        </p:nvSpPr>
        <p:spPr>
          <a:xfrm>
            <a:off x="660240" y="1219320"/>
            <a:ext cx="8585280" cy="914400"/>
          </a:xfrm>
          <a:custGeom>
            <a:avLst/>
            <a:gdLst>
              <a:gd name="textAreaLeft" fmla="*/ 0 w 8585280"/>
              <a:gd name="textAreaRight" fmla="*/ 8585640 w 85852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2146320" y="3962520"/>
            <a:ext cx="7054920" cy="0"/>
          </a:xfrm>
          <a:prstGeom prst="line">
            <a:avLst/>
          </a:prstGeom>
          <a:ln w="255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8"/>
          </p:nvPr>
        </p:nvSpPr>
        <p:spPr>
          <a:xfrm>
            <a:off x="3384360" y="6243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9"/>
          </p:nvPr>
        </p:nvSpPr>
        <p:spPr>
          <a:xfrm>
            <a:off x="884376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58AB-925A-4D8E-B91C-F33C24FDDA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925200" cy="6877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"/>
          <p:cNvPicPr/>
          <p:nvPr/>
        </p:nvPicPr>
        <p:blipFill>
          <a:blip r:embed="rId2"/>
          <a:stretch/>
        </p:blipFill>
        <p:spPr>
          <a:xfrm>
            <a:off x="7615080" y="87480"/>
            <a:ext cx="2238480" cy="1565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3"/>
          <a:stretch/>
        </p:blipFill>
        <p:spPr>
          <a:xfrm>
            <a:off x="71280" y="87480"/>
            <a:ext cx="2286000" cy="1604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"/>
          <p:cNvPicPr/>
          <p:nvPr/>
        </p:nvPicPr>
        <p:blipFill>
          <a:blip r:embed="rId4"/>
          <a:stretch/>
        </p:blipFill>
        <p:spPr>
          <a:xfrm>
            <a:off x="5167440" y="87480"/>
            <a:ext cx="2400120" cy="16002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"/>
          <p:cNvPicPr/>
          <p:nvPr/>
        </p:nvPicPr>
        <p:blipFill>
          <a:blip r:embed="rId5"/>
          <a:stretch/>
        </p:blipFill>
        <p:spPr>
          <a:xfrm>
            <a:off x="2440080" y="87480"/>
            <a:ext cx="2655720" cy="15714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"/>
          <p:cNvPicPr/>
          <p:nvPr/>
        </p:nvPicPr>
        <p:blipFill>
          <a:blip r:embed="rId6"/>
          <a:stretch/>
        </p:blipFill>
        <p:spPr>
          <a:xfrm>
            <a:off x="239760" y="1785960"/>
            <a:ext cx="1855800" cy="1643040"/>
          </a:xfrm>
          <a:prstGeom prst="rect">
            <a:avLst/>
          </a:prstGeom>
          <a:ln w="0">
            <a:noFill/>
          </a:ln>
        </p:spPr>
      </p:pic>
      <p:pic>
        <p:nvPicPr>
          <p:cNvPr id="227" name="Прямоугольник 8" descr=""/>
          <p:cNvPicPr/>
          <p:nvPr/>
        </p:nvPicPr>
        <p:blipFill>
          <a:blip r:embed="rId7"/>
          <a:stretch/>
        </p:blipFill>
        <p:spPr>
          <a:xfrm>
            <a:off x="1792440" y="1504800"/>
            <a:ext cx="8126280" cy="2586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" descr=""/>
          <p:cNvPicPr/>
          <p:nvPr/>
        </p:nvPicPr>
        <p:blipFill>
          <a:blip r:embed="rId8"/>
          <a:stretch/>
        </p:blipFill>
        <p:spPr>
          <a:xfrm>
            <a:off x="614520" y="3643200"/>
            <a:ext cx="1123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eateProcess()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ppiProcInfo – a pointer to a PROCESS_INFORMATION structure which must be previously allocated by the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struct _PROCESS_INFORMATION 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HANDLE hProcess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HANDLE hThread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DWORD dwProcessId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DWORD dwThreadId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 PROCESS_INFORMA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 fields are set by CreateProcess() and can be used to access/manage child process and its primary th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cess Termination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sh execution of all process 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roy all User and GDI objects created by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all kernel objects opened by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cess waitable state to “signale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process return code from STILL_ACTIVE to value set by called process termination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y the Win32/Wi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bsystem about the process 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ment the process descriptor “use count” attrib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ase of 0, destroy the process descrip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cess termin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 ExitProcess(UINT fuExitCod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s the calling process and all its 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ExitCode – the exit code for the process and all its 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 TerminateProcess(HANDLE hProcess, UINT fuExitCod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tes the specified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rocess – a handle to the process to be ter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need to have an appropriate access right to terminate another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ExitCode – the exit code which will be set for the terminated process and all its 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Process Functions (~50 in all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72880" y="1197000"/>
          <a:ext cx="9437760" cy="3983040"/>
        </p:xfrm>
        <a:graphic>
          <a:graphicData uri="http://schemas.openxmlformats.org/drawingml/2006/table">
            <a:tbl>
              <a:tblPr/>
              <a:tblGrid>
                <a:gridCol w="2822760"/>
                <a:gridCol w="6615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ProcessAsU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new process can run in the security context of the another u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Command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access to command-line string for the current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CurrentProcess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rieves the current process identif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Environment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rieves the value of the specified 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ExitCode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rieves the termination status of the specified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Priority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rieves the priority class for the specified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ProcessHandle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rieves the number of open handles for the specified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s an existing local process 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Environment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s the value of an environment 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Priority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s the priority class for the specified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77" name="Содержимое 5"/>
          <p:cNvSpPr/>
          <p:nvPr/>
        </p:nvSpPr>
        <p:spPr>
          <a:xfrm>
            <a:off x="272880" y="5500800"/>
            <a:ext cx="9437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verall number of process- and thread-concerned functions is about 200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1523520"/>
            <a:ext cx="825804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#3 – Process Cre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2146320" y="3962520"/>
            <a:ext cx="7099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indows-Sty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Нижний колонтитул 3"/>
          <p:cNvSpPr/>
          <p:nvPr/>
        </p:nvSpPr>
        <p:spPr>
          <a:xfrm>
            <a:off x="3384720" y="624348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3 – The Problem State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program which implements follow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new process with “Notepad.exe” program running insid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it for notepad comp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need to find the full name of notepad program (use properties of Notepad shortcut in Windows Start men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my system possible full names 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:\Windows\system32\notepad.ex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:\Windows\notepad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3 – The Program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STARTUPINFO s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PROCESS_INFORMATION p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ZeroMemory( &amp;si, sizeof(si)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si.cb = sizeof(s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ZeroMemory( &amp;pi, sizeof(pi)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we need to prepare supplementary structures for CreateProcess()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fulfill them with zeroes because we do not use any flags or parameters starting Notepad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3 – The program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reateProcess( TEXT("C:\\Windows\\notepad.exe“,//Modu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XT("Editor"), // Command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,           // Process handle not inheri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,           // Thread handle not inheri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LSE,          // Set handle inheritance to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,              // No creation fl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,           // Use parent's environment b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,           // Use parent's starting direct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si,            // Pointer to STARTUPINFO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pi );      // Pointer to PROCESS_INFORMATION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we pass full name of binary executable in first parameter, second parameter can contain any program name in command line (the first w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3 – The Progr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WaitForSingleObject( pi.hProcess, INFINITE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oseHandle( pi.hProcess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oseHandle( pi.hThread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itForSingleObject() is a representative of Wait-functions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allows to wait for process comp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discuss it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Handle() disconnects current process from some kernel object and decrements this object’s reference 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reference count became 0 kernel object is destr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 process needs to close child process and its main thread HANDLEs to allow OS kernel destroy their descrip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360" y="1523520"/>
            <a:ext cx="825804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 creation and termin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2146320" y="3962520"/>
            <a:ext cx="7099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6160" y="3071880"/>
            <a:ext cx="8420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6 Practic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process and thread cre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28400" y="2204640"/>
            <a:ext cx="904716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perating Systems. Support for Parallel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3800520" y="5593320"/>
            <a:ext cx="59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v A.V.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ing Department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read Cre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Thread() function can be used to create a new th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“thread” kernel object with “use count” attribute set 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 for the created thread will be returned by CreateThread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thread return code to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TILL_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the thread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th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ON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ructure for the new thread (hardware con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fields of CONTEXT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Stack Pointer (SP) to the top of the created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Instruction Pointer (IP) to the beginning of the special internal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tartOfThre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 function which will call the user’s thread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y the Win32/Win64 subsystem about the thread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eateThread(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 CreateThread (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LPSECURITY_ATTRIBUTES lpsa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DWORD cbStack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LPTHREAD_START_ROUTINE lpStartAddress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LPVOID lpvThreadParm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DWORD fdwCreate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LPDWORD lpIDTHREAD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pStartAddress – A pointer to the application-defined function to be executed by the th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pvThreadParm – a pointer to a variable to be passed to the thread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pIDTHREAD – a pointer to a variable that receives the thread identifier (can be NU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read Termin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thread waitable state to “signale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thread return code from STILL_ACTIVE to value set by called thread termination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roy the thread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roy the thread CONTEXT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y the Win32/Win64 subsystem about the thread 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ment the thread descriptor “use count” attrib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ase of 0, destroy the thread descrip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hread was the last active thread in the owner process, terminate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read Termin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 ExitThread(UINT fuExitCod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s the calling th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ExitCode – the exit code for the th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 TerminateThread(HANDLE hThread, UINT fuExitCod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tes the specified th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hread – a handle to the thread to be terminated (in the same process or in another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need to have an appropriate access right to terminate the th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ExitCode – the exit code which will be set for the terminated th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thread function (~40 in all)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272880" y="1197000"/>
          <a:ext cx="9437760" cy="4521240"/>
        </p:xfrm>
        <a:graphic>
          <a:graphicData uri="http://schemas.openxmlformats.org/drawingml/2006/table">
            <a:tbl>
              <a:tblPr/>
              <a:tblGrid>
                <a:gridCol w="2608560"/>
                <a:gridCol w="68292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RemoteTh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a thread in another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CurrentThread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rieves the thread identif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ExitCodeTh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rieves the termination status of the specified th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ThreadPrio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rieves the priority value for the specified th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ThreadTi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rieves timing information for the specified th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Th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s an existing thread 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meTh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me thread execution after suspending (decrements a thread's suspend cou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pends the execution of the current thread for a specified time interv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pendTh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pends the specified th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ToTh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s the calling thread to yield execution to another thread that is ready to run on the current process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ernard MT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360" y="1523520"/>
            <a:ext cx="825804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#4 – Thread Cre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2146320" y="3962520"/>
            <a:ext cx="7099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4 – The Problem State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program which implements follow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5 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thread shall output “Hello from thread #xx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it for all threads comp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4 – The Program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WORD WINAPI ThreadProc( LPVOID arg 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ThreadNum = *(int*) ar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Hello from thread #%d\n“, ThreadNum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flush(stdou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itThread(0);  // return 0; is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WORD WINAPI ThreadProc( LPVOID arg ) – thread function shall have exactly this 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pass any value compatible with LPVOID as thread function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case we pass (int *) converted to (LPVOD) so inside the thread function we shall do the opposite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4 – The Program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in(void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ANDLE Threads[5], n[i] = {1, 2, 3, 4, 5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 i = 0; i &lt; 10; i ++ 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eads[i] = CreateThread(NULL, 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eadProc, (LPVOID)&amp;n[i], 0,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vide threads with unique numbers we can pass "i“ variable by value (it’s possible because int and LPVOID types are compatible) or use an additional array with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ing (LPVOID)&amp;i will produce an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4 – The Progr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 i = 0; i &lt; 10; i ++ 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itForMultipleObjects(5, Thread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ue, INFINIT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“All threads was finished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flush(stdou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itForMultipleObjects() is another representative of Wait-functions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allows to wait for all threads comp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discuss it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b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on and termination are main operations o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creates process and starts program execution in a single system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’ll discuss Windows-style process and thread creation and termination and illustrate this operations with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4 – The Outp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ello from thread 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ello from thread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ello from thread 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ello from thread #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ello from thread #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ll threads was fin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of threads output can v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epends on relative threads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lf-Training Problem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program which implements follow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new process with “Notepad.exe” program running inside it and uses an additional command line parameter "C:\Windows\system.ini“ (or chose another existing file na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the child process ident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it for 10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tepad will not finish in this 10 seconds, terminat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the return code of Note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lf-Training Probl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program which implements follow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global volatile integer variable GlobalVar with initial value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the value of Global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10 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hread must get address of GlobalVar as a function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hread must increment GlobalVar 100 million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it for all threads comp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the final value of Global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raham Silberschatz, Peter B. Galvin and Greg Gagne. Operating System Concepts. 8-th Ed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rew S. Tanenbaum. Modern Operating Systems (3rd Edi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Russinovich, David Solomon and Alex Ionescu. Windows Internals (5th Edition) (Developer Refer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A. Solomon, Mark Russinovich. The Windows Operating System Internals Curriculum Resource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utho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ey Vladimirovich Linev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ational Mathematics and Cybernetics Faculty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artment of Software Engineering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hie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n@unn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creation and termination, Windows-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#3 – Process creation, Windows-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#4 – Thread creation,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360" y="1523520"/>
            <a:ext cx="825804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s Creation and Termin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2146320" y="3962520"/>
            <a:ext cx="7099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indows-Sty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cess and its Resourc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682560" y="1760400"/>
            <a:ext cx="1490760" cy="1040040"/>
          </a:xfrm>
          <a:prstGeom prst="hexagon">
            <a:avLst>
              <a:gd name="adj" fmla="val 36345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or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40" name="AutoShape 8"/>
          <p:cNvSpPr/>
          <p:nvPr/>
        </p:nvSpPr>
        <p:spPr>
          <a:xfrm>
            <a:off x="1708200" y="1571760"/>
            <a:ext cx="1490760" cy="37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token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41" name="AutoShape 10"/>
          <p:cNvSpPr/>
          <p:nvPr/>
        </p:nvSpPr>
        <p:spPr>
          <a:xfrm>
            <a:off x="4410000" y="1949400"/>
            <a:ext cx="1398600" cy="662040"/>
          </a:xfrm>
          <a:prstGeom prst="parallelogram">
            <a:avLst>
              <a:gd name="adj" fmla="val 535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AD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42" name="AutoShape 11"/>
          <p:cNvSpPr/>
          <p:nvPr/>
        </p:nvSpPr>
        <p:spPr>
          <a:xfrm>
            <a:off x="5808600" y="1949400"/>
            <a:ext cx="1397160" cy="662040"/>
          </a:xfrm>
          <a:prstGeom prst="parallelogram">
            <a:avLst>
              <a:gd name="adj" fmla="val 535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AD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43" name="AutoShape 12"/>
          <p:cNvSpPr/>
          <p:nvPr/>
        </p:nvSpPr>
        <p:spPr>
          <a:xfrm>
            <a:off x="7205760" y="1949400"/>
            <a:ext cx="1398600" cy="662040"/>
          </a:xfrm>
          <a:prstGeom prst="parallelogram">
            <a:avLst>
              <a:gd name="adj" fmla="val 535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AD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44" name="Rectangle 14"/>
          <p:cNvSpPr/>
          <p:nvPr/>
        </p:nvSpPr>
        <p:spPr>
          <a:xfrm>
            <a:off x="2309760" y="2800440"/>
            <a:ext cx="1355760" cy="41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45" name="Text Box 18"/>
          <p:cNvSpPr/>
          <p:nvPr/>
        </p:nvSpPr>
        <p:spPr>
          <a:xfrm>
            <a:off x="2309760" y="250020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ndle table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46" name="AutoShape 19"/>
          <p:cNvSpPr/>
          <p:nvPr/>
        </p:nvSpPr>
        <p:spPr>
          <a:xfrm>
            <a:off x="4524480" y="3286080"/>
            <a:ext cx="1117440" cy="30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47" name="AutoShape 21"/>
          <p:cNvSpPr/>
          <p:nvPr/>
        </p:nvSpPr>
        <p:spPr>
          <a:xfrm>
            <a:off x="3013200" y="5164200"/>
            <a:ext cx="1304640" cy="755640"/>
          </a:xfrm>
          <a:custGeom>
            <a:avLst/>
            <a:gdLst>
              <a:gd name="textAreaLeft" fmla="*/ 0 w 1304640"/>
              <a:gd name="textAreaRight" fmla="*/ 1305000 w 130464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23" y="0"/>
                </a:lnTo>
                <a:lnTo>
                  <a:pt x="21600" y="10800"/>
                </a:lnTo>
                <a:lnTo>
                  <a:pt x="1612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48" name="AutoShape 22"/>
          <p:cNvSpPr/>
          <p:nvPr/>
        </p:nvSpPr>
        <p:spPr>
          <a:xfrm>
            <a:off x="4597560" y="5164200"/>
            <a:ext cx="1304640" cy="755640"/>
          </a:xfrm>
          <a:custGeom>
            <a:avLst/>
            <a:gdLst>
              <a:gd name="textAreaLeft" fmla="*/ 0 w 1304640"/>
              <a:gd name="textAreaRight" fmla="*/ 1305000 w 130464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23" y="0"/>
                </a:lnTo>
                <a:lnTo>
                  <a:pt x="21600" y="10800"/>
                </a:lnTo>
                <a:lnTo>
                  <a:pt x="1612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49" name="AutoShape 23"/>
          <p:cNvSpPr/>
          <p:nvPr/>
        </p:nvSpPr>
        <p:spPr>
          <a:xfrm>
            <a:off x="6181560" y="5164200"/>
            <a:ext cx="1305000" cy="75564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23" y="0"/>
                </a:lnTo>
                <a:lnTo>
                  <a:pt x="21600" y="10800"/>
                </a:lnTo>
                <a:lnTo>
                  <a:pt x="1612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cxnSp>
        <p:nvCxnSpPr>
          <p:cNvPr id="250" name="AutoShape 27"/>
          <p:cNvCxnSpPr>
            <a:stCxn id="239" idx="2"/>
            <a:endCxn id="241" idx="5"/>
          </p:cNvCxnSpPr>
          <p:nvPr/>
        </p:nvCxnSpPr>
        <p:spPr>
          <a:xfrm>
            <a:off x="2173320" y="2280960"/>
            <a:ext cx="24120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AutoShape 28"/>
          <p:cNvCxnSpPr>
            <a:endCxn id="247" idx="0"/>
          </p:cNvCxnSpPr>
          <p:nvPr/>
        </p:nvCxnSpPr>
        <p:spPr>
          <a:xfrm>
            <a:off x="1428480" y="5541480"/>
            <a:ext cx="15850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AutoShape 29"/>
          <p:cNvCxnSpPr>
            <a:stCxn id="239" idx="2"/>
          </p:cNvCxnSpPr>
          <p:nvPr/>
        </p:nvCxnSpPr>
        <p:spPr>
          <a:xfrm>
            <a:off x="1428480" y="2800080"/>
            <a:ext cx="1080" cy="2741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3" name="AutoShape 30"/>
          <p:cNvCxnSpPr/>
          <p:nvPr/>
        </p:nvCxnSpPr>
        <p:spPr>
          <a:xfrm>
            <a:off x="3666600" y="3428640"/>
            <a:ext cx="8391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31"/>
          <p:cNvCxnSpPr/>
          <p:nvPr/>
        </p:nvCxnSpPr>
        <p:spPr>
          <a:xfrm>
            <a:off x="3666600" y="3857760"/>
            <a:ext cx="83916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Line 32"/>
          <p:cNvSpPr/>
          <p:nvPr/>
        </p:nvSpPr>
        <p:spPr>
          <a:xfrm>
            <a:off x="1987560" y="2611440"/>
            <a:ext cx="372960" cy="37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56" name="Line 33"/>
          <p:cNvSpPr/>
          <p:nvPr/>
        </p:nvSpPr>
        <p:spPr>
          <a:xfrm>
            <a:off x="7858080" y="5541840"/>
            <a:ext cx="37296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57" name="Rectangle 14"/>
          <p:cNvSpPr/>
          <p:nvPr/>
        </p:nvSpPr>
        <p:spPr>
          <a:xfrm>
            <a:off x="2309760" y="3214800"/>
            <a:ext cx="135576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58" name="Rectangle 14"/>
          <p:cNvSpPr/>
          <p:nvPr/>
        </p:nvSpPr>
        <p:spPr>
          <a:xfrm>
            <a:off x="2309760" y="3643200"/>
            <a:ext cx="135576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2309760" y="4071960"/>
            <a:ext cx="135576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60" name="AutoShape 19"/>
          <p:cNvSpPr/>
          <p:nvPr/>
        </p:nvSpPr>
        <p:spPr>
          <a:xfrm>
            <a:off x="4524480" y="3714840"/>
            <a:ext cx="1117440" cy="30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4442400" y="2714760"/>
            <a:ext cx="344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irtual address space descriptors (VADs)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7024680" y="5715000"/>
            <a:ext cx="1490760" cy="37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token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cess Cre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Process() call can be used to create a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n binary executable file (filename.ex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“process” kernel object with “use count” attribute set to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Process’ Virtual Address Space (VAS, size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4 GB in Win32 and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6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16 EB with really accessible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48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256TB in Win6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VAS structure and load the code and data from binary executable and Dynamic-Link Libraries (dl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the primary thread (thread descriptor, stack, h/w contex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ify the Win32/Wi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ubsystem about creation of new process and thr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ain thread will start its execution with C startup code which will call main/WinMain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case of success CreateProcess() will retur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eateProcess() 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 CreateProcess 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PCTSTR lpszImageNam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PCTSTR lpszCommandL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PSECURITY_ATTRIBUTES lpsaProces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PSECURITY_ATTRIBUTES lpsaThrea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 fInheritHand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WORD fdwCre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PVOID lpvEnvironmen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PTSTR lpszCurDi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PSTARTUPINFO lpsiStartInf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PPROCESS_INFORMATION lppiProcInf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MSND (http://msdn.microsoft.com) contains the full function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eateProcess() …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pszImageName – the name of binary executable (full or part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lpszCommandLine == NULL, the module name shall be the first white space-delimited token in the lpComman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pCommandLine – the command line to be exec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oth lpszImageName and lpCommandLine are set the first one will be used to find the binary executable fi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Process(“C:\\WINNT\\SYSTEM\\NOTEPAD.EXE”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WRITE README.TXT”, 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4T10:27:56Z</dcterms:created>
  <dc:creator>Alexey V. Linev</dc:creator>
  <dc:description/>
  <dc:language>en-US</dc:language>
  <cp:lastModifiedBy>alexey</cp:lastModifiedBy>
  <dcterms:modified xsi:type="dcterms:W3CDTF">2014-11-21T05:59:04Z</dcterms:modified>
  <cp:revision>2486</cp:revision>
  <dc:subject>Windows process and thread creation</dc:subject>
  <dc:title>Operating Systems, Support for Parallelism, 06 Practice</dc:title>
</cp:coreProperties>
</file>