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media/image10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AE28D-306D-46D6-8E16-F8A0428B01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03B68-97E2-40A5-8F88-EA6A5AC3DF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4C479-88E7-4D29-A44E-4C46AFC900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557F-273C-4A83-8EF0-54B5DE313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5000" y="379224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1C29-0B6B-4741-81EE-F2DA2EFA4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634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C5B7-7F9F-4867-9FA9-DD9720F12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0964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2428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500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0964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2428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BE64-39FF-4E35-8DE3-2F8F9F243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72520" y="207720"/>
            <a:ext cx="908388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9319-226F-4C25-B0AD-9343C04FF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634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000" y="379224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634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0964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2428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9500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0964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2428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CAF10-F88E-4F73-859D-6918E9803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6656E-9EEA-426F-8197-3ECD4F6B4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9AD38-844D-419A-A3B6-B06212711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41AB2-09FA-42AF-A2E5-70189E475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FD769-F8E1-4704-95AB-72179E006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C122-2AA5-4BCB-BC31-C3DBCF57E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272520" y="207720"/>
            <a:ext cx="908388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D35FE-C7C3-47EA-8B88-5B0E8F14A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860BE-AAC6-435F-B32D-3E5EC9C8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0634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56FBE-3E9E-4C0E-B69D-E15C0933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EB8E2-30CB-43CD-B6E9-77E7D45A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5000" y="379224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6D7DF-D8BF-4AA5-9AFA-CA357AAB6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0634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F7CC3-F7E1-44F4-8039-EC4886F82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50964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52428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9500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50964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52428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4112C-58E4-4B59-9246-43072E824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836D7-180E-4980-87D9-6D7459AB2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13015-4B11-43C1-B701-F418EABE5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62E7F-5125-4D13-8AC3-7E4FB5030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492A-0A50-49AB-84F2-BFA3B0F27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318C7-E867-429A-9AC2-754D9C127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31E90-0034-4729-9CA8-4D97CD9A2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272520" y="207720"/>
            <a:ext cx="908388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8E95C-6A9B-4018-82D8-0CAA1D5CF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78799-3A2B-48C7-941F-3E4B7B5B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0634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55DBD-3014-42B9-9004-28DE7B7D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83953-5233-4205-BAFF-097602E6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5000" y="379224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88098-D4F1-4A34-9899-049352C9B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0634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8DEF6-D96E-40C5-B73B-7FCFC2703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0964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52428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9500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0964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52428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2B6CB-30AC-4FE5-A48E-F206D2918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E1B8-2852-4F63-A53E-BC09ECB42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272520" y="207720"/>
            <a:ext cx="908388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634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5000" y="379224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50634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72520" y="207720"/>
            <a:ext cx="908388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A875-78FD-4151-BEB2-BA55CECA3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50964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52428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9500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50964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52428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6A2A-2DFB-4001-804E-E0EB7F8B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634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33E5-CE64-470E-8030-9867FE76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13CF-3352-4466-A84D-3DF3C412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8236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N.Novgorod, 20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0780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rating Systems, Support for Parallelis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8 Practice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ynchronization-2. Standard problem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84376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3CD90-45B9-4546-9CE2-5B5FDC53E6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9"/>
          <p:cNvSpPr/>
          <p:nvPr/>
        </p:nvSpPr>
        <p:spPr>
          <a:xfrm>
            <a:off x="973080" y="6381720"/>
            <a:ext cx="8737560" cy="0"/>
          </a:xfrm>
          <a:prstGeom prst="line">
            <a:avLst/>
          </a:prstGeom>
          <a:ln w="38160">
            <a:solidFill>
              <a:srgbClr val="096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" name="Line 12"/>
          <p:cNvSpPr/>
          <p:nvPr/>
        </p:nvSpPr>
        <p:spPr>
          <a:xfrm>
            <a:off x="131760" y="960480"/>
            <a:ext cx="9441000" cy="0"/>
          </a:xfrm>
          <a:prstGeom prst="line">
            <a:avLst/>
          </a:prstGeom>
          <a:ln w="38160">
            <a:solidFill>
              <a:srgbClr val="096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" name="Line 13"/>
          <p:cNvSpPr/>
          <p:nvPr/>
        </p:nvSpPr>
        <p:spPr>
          <a:xfrm>
            <a:off x="131760" y="109440"/>
            <a:ext cx="0" cy="863640"/>
          </a:xfrm>
          <a:prstGeom prst="line">
            <a:avLst/>
          </a:prstGeom>
          <a:ln w="38160">
            <a:solidFill>
              <a:srgbClr val="096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pic>
        <p:nvPicPr>
          <p:cNvPr id="8" name="Рисунок 10" descr=""/>
          <p:cNvPicPr/>
          <p:nvPr/>
        </p:nvPicPr>
        <p:blipFill>
          <a:blip r:embed="rId2"/>
          <a:stretch/>
        </p:blipFill>
        <p:spPr>
          <a:xfrm>
            <a:off x="25560" y="6161040"/>
            <a:ext cx="684000" cy="682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9"/>
          <p:cNvSpPr/>
          <p:nvPr/>
        </p:nvSpPr>
        <p:spPr>
          <a:xfrm>
            <a:off x="973080" y="6381720"/>
            <a:ext cx="8737560" cy="0"/>
          </a:xfrm>
          <a:prstGeom prst="line">
            <a:avLst/>
          </a:prstGeom>
          <a:ln w="38160">
            <a:solidFill>
              <a:srgbClr val="096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6" name="Line 12"/>
          <p:cNvSpPr/>
          <p:nvPr/>
        </p:nvSpPr>
        <p:spPr>
          <a:xfrm>
            <a:off x="131760" y="960480"/>
            <a:ext cx="9441000" cy="0"/>
          </a:xfrm>
          <a:prstGeom prst="line">
            <a:avLst/>
          </a:prstGeom>
          <a:ln w="38160">
            <a:solidFill>
              <a:srgbClr val="096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7" name="Line 13"/>
          <p:cNvSpPr/>
          <p:nvPr/>
        </p:nvSpPr>
        <p:spPr>
          <a:xfrm>
            <a:off x="131760" y="109440"/>
            <a:ext cx="0" cy="863640"/>
          </a:xfrm>
          <a:prstGeom prst="line">
            <a:avLst/>
          </a:prstGeom>
          <a:ln w="38160">
            <a:solidFill>
              <a:srgbClr val="096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8" name="Text Box 1033"/>
          <p:cNvSpPr/>
          <p:nvPr/>
        </p:nvSpPr>
        <p:spPr>
          <a:xfrm>
            <a:off x="9285120" y="6454800"/>
            <a:ext cx="5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E4BD-629D-494B-B74B-A9711481BD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9" name="Text Box 1033"/>
          <p:cNvSpPr/>
          <p:nvPr/>
        </p:nvSpPr>
        <p:spPr>
          <a:xfrm>
            <a:off x="985680" y="6408720"/>
            <a:ext cx="191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N.Novgorod, 2014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0" name="Text Box 1033"/>
          <p:cNvSpPr/>
          <p:nvPr/>
        </p:nvSpPr>
        <p:spPr>
          <a:xfrm>
            <a:off x="3002040" y="6404040"/>
            <a:ext cx="480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rating Systems, Support for Parallelism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8 Practice. Synchronization-2. Standard problems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pic>
        <p:nvPicPr>
          <p:cNvPr id="51" name="Рисунок 17" descr=""/>
          <p:cNvPicPr/>
          <p:nvPr/>
        </p:nvPicPr>
        <p:blipFill>
          <a:blip r:embed="rId2"/>
          <a:stretch/>
        </p:blipFill>
        <p:spPr>
          <a:xfrm>
            <a:off x="25560" y="6161040"/>
            <a:ext cx="684000" cy="6825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3" descr="NNGU_Logo_PNG"/>
          <p:cNvPicPr/>
          <p:nvPr/>
        </p:nvPicPr>
        <p:blipFill>
          <a:blip r:embed="rId2"/>
          <a:stretch/>
        </p:blipFill>
        <p:spPr>
          <a:xfrm>
            <a:off x="128520" y="26028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033"/>
          <p:cNvSpPr/>
          <p:nvPr/>
        </p:nvSpPr>
        <p:spPr>
          <a:xfrm>
            <a:off x="0" y="115920"/>
            <a:ext cx="994572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bachevsky State University of Nizhni Novgorod</a:t>
            </a:r>
            <a:endParaRPr b="0" lang="en-US" sz="2400" spc="-1" strike="noStrike">
              <a:solidFill>
                <a:srgbClr val="000000"/>
              </a:solidFill>
              <a:latin typeface="Bernard MT Condensed"/>
            </a:endParaRPr>
          </a:p>
          <a:p>
            <a:pPr algn="ctr">
              <a:lnSpc>
                <a:spcPct val="12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utational Mathematics and Cybernetics Faculty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4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N.Novgorod, 20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5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rating Systems, Support for Parallelis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8 Practice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ynchronization-2. Standard problem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6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reeform 7"/>
          <p:cNvSpPr/>
          <p:nvPr/>
        </p:nvSpPr>
        <p:spPr>
          <a:xfrm>
            <a:off x="660240" y="1219320"/>
            <a:ext cx="8585280" cy="914400"/>
          </a:xfrm>
          <a:prstGeom prst="pie">
            <a:avLst/>
          </a:prstGeom>
          <a:noFill/>
          <a:ln w="25560">
            <a:solidFill>
              <a:srgbClr val="096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4" name="Line 8"/>
          <p:cNvSpPr/>
          <p:nvPr/>
        </p:nvSpPr>
        <p:spPr>
          <a:xfrm>
            <a:off x="2146320" y="3962520"/>
            <a:ext cx="7054920" cy="0"/>
          </a:xfrm>
          <a:prstGeom prst="line">
            <a:avLst/>
          </a:prstGeom>
          <a:ln w="25560">
            <a:solidFill>
              <a:srgbClr val="096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7"/>
          </p:nvPr>
        </p:nvSpPr>
        <p:spPr>
          <a:xfrm>
            <a:off x="495360" y="624348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8"/>
          </p:nvPr>
        </p:nvSpPr>
        <p:spPr>
          <a:xfrm>
            <a:off x="3384360" y="624348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9"/>
          </p:nvPr>
        </p:nvSpPr>
        <p:spPr>
          <a:xfrm>
            <a:off x="884376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687E2-58FC-43D7-81F3-209EEDE999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49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925200" cy="68770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"/>
          <p:cNvPicPr/>
          <p:nvPr/>
        </p:nvPicPr>
        <p:blipFill>
          <a:blip r:embed="rId2"/>
          <a:stretch/>
        </p:blipFill>
        <p:spPr>
          <a:xfrm>
            <a:off x="7615080" y="87480"/>
            <a:ext cx="2238480" cy="15652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"/>
          <p:cNvPicPr/>
          <p:nvPr/>
        </p:nvPicPr>
        <p:blipFill>
          <a:blip r:embed="rId3"/>
          <a:stretch/>
        </p:blipFill>
        <p:spPr>
          <a:xfrm>
            <a:off x="71280" y="87480"/>
            <a:ext cx="2286000" cy="1604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"/>
          <p:cNvPicPr/>
          <p:nvPr/>
        </p:nvPicPr>
        <p:blipFill>
          <a:blip r:embed="rId4"/>
          <a:stretch/>
        </p:blipFill>
        <p:spPr>
          <a:xfrm>
            <a:off x="5167440" y="87480"/>
            <a:ext cx="2400120" cy="16002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" descr=""/>
          <p:cNvPicPr/>
          <p:nvPr/>
        </p:nvPicPr>
        <p:blipFill>
          <a:blip r:embed="rId5"/>
          <a:stretch/>
        </p:blipFill>
        <p:spPr>
          <a:xfrm>
            <a:off x="2440080" y="87480"/>
            <a:ext cx="2655720" cy="15714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9" descr=""/>
          <p:cNvPicPr/>
          <p:nvPr/>
        </p:nvPicPr>
        <p:blipFill>
          <a:blip r:embed="rId6"/>
          <a:stretch/>
        </p:blipFill>
        <p:spPr>
          <a:xfrm>
            <a:off x="239760" y="1785960"/>
            <a:ext cx="1855800" cy="1643040"/>
          </a:xfrm>
          <a:prstGeom prst="rect">
            <a:avLst/>
          </a:prstGeom>
          <a:ln w="0">
            <a:noFill/>
          </a:ln>
        </p:spPr>
      </p:pic>
      <p:pic>
        <p:nvPicPr>
          <p:cNvPr id="227" name="Прямоугольник 8" descr=""/>
          <p:cNvPicPr/>
          <p:nvPr/>
        </p:nvPicPr>
        <p:blipFill>
          <a:blip r:embed="rId7"/>
          <a:stretch/>
        </p:blipFill>
        <p:spPr>
          <a:xfrm>
            <a:off x="1792440" y="1504800"/>
            <a:ext cx="8126280" cy="2586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" descr=""/>
          <p:cNvPicPr/>
          <p:nvPr/>
        </p:nvPicPr>
        <p:blipFill>
          <a:blip r:embed="rId8"/>
          <a:stretch/>
        </p:blipFill>
        <p:spPr>
          <a:xfrm>
            <a:off x="614520" y="3643200"/>
            <a:ext cx="11239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90360" y="1523520"/>
            <a:ext cx="825804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 #8 – Readers-Writers proble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2146320" y="3962520"/>
            <a:ext cx="7099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ample #8 – The problem statemen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272880" y="1197000"/>
            <a:ext cx="94377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critical data and two defined operations – reading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rs change data; while writer works with data they can’t be accesses by other th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ers don’t change data; while reader works with data they can’t be accessed by writers but can be accessed by other rea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ads run concurr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3780000" y="4846680"/>
            <a:ext cx="1323720" cy="520560"/>
          </a:xfrm>
          <a:prstGeom prst="rect">
            <a:avLst/>
          </a:prstGeom>
          <a:solidFill>
            <a:srgbClr val="ccff99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53" name="Freeform 5"/>
          <p:cNvSpPr/>
          <p:nvPr/>
        </p:nvSpPr>
        <p:spPr>
          <a:xfrm>
            <a:off x="1555920" y="4762440"/>
            <a:ext cx="180720" cy="338040"/>
          </a:xfrm>
          <a:prstGeom prst="pie">
            <a:avLst/>
          </a:prstGeom>
          <a:noFill/>
          <a:ln w="28440">
            <a:solidFill>
              <a:srgbClr val="1c1c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54" name="Freeform 6"/>
          <p:cNvSpPr/>
          <p:nvPr/>
        </p:nvSpPr>
        <p:spPr>
          <a:xfrm>
            <a:off x="1403280" y="5448240"/>
            <a:ext cx="181080" cy="338040"/>
          </a:xfrm>
          <a:prstGeom prst="pie">
            <a:avLst/>
          </a:prstGeom>
          <a:noFill/>
          <a:ln w="28440">
            <a:solidFill>
              <a:srgbClr val="1c1c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55" name="Freeform 7"/>
          <p:cNvSpPr/>
          <p:nvPr/>
        </p:nvSpPr>
        <p:spPr>
          <a:xfrm>
            <a:off x="1860480" y="5067360"/>
            <a:ext cx="181080" cy="338040"/>
          </a:xfrm>
          <a:prstGeom prst="pie">
            <a:avLst/>
          </a:prstGeom>
          <a:noFill/>
          <a:ln w="28440">
            <a:solidFill>
              <a:srgbClr val="1c1c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56" name="Freeform 8"/>
          <p:cNvSpPr/>
          <p:nvPr/>
        </p:nvSpPr>
        <p:spPr>
          <a:xfrm>
            <a:off x="7089840" y="4567320"/>
            <a:ext cx="181080" cy="33804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57" name="Freeform 9"/>
          <p:cNvSpPr/>
          <p:nvPr/>
        </p:nvSpPr>
        <p:spPr>
          <a:xfrm>
            <a:off x="6937200" y="5253120"/>
            <a:ext cx="181080" cy="33804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58" name="Line 10"/>
          <p:cNvSpPr/>
          <p:nvPr/>
        </p:nvSpPr>
        <p:spPr>
          <a:xfrm flipV="1">
            <a:off x="2195640" y="5135400"/>
            <a:ext cx="1368360" cy="84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59" name="Line 11"/>
          <p:cNvSpPr/>
          <p:nvPr/>
        </p:nvSpPr>
        <p:spPr>
          <a:xfrm>
            <a:off x="5292720" y="5135400"/>
            <a:ext cx="151128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60" name="Line 12"/>
          <p:cNvSpPr/>
          <p:nvPr/>
        </p:nvSpPr>
        <p:spPr>
          <a:xfrm>
            <a:off x="1979640" y="4917960"/>
            <a:ext cx="1584360" cy="73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61" name="Line 13"/>
          <p:cNvSpPr/>
          <p:nvPr/>
        </p:nvSpPr>
        <p:spPr>
          <a:xfrm flipV="1">
            <a:off x="1835280" y="5277960"/>
            <a:ext cx="1728720" cy="360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62" name="Line 14"/>
          <p:cNvSpPr/>
          <p:nvPr/>
        </p:nvSpPr>
        <p:spPr>
          <a:xfrm flipV="1">
            <a:off x="5292720" y="4775040"/>
            <a:ext cx="1655640" cy="216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ample #8 – Solution #1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93816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riter(){</a:t>
            </a:r>
            <a:endParaRPr b="0" lang="en-US" sz="24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ile(true){</a:t>
            </a:r>
            <a:endParaRPr b="0" lang="en-US" sz="24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epareData();</a:t>
            </a:r>
            <a:endParaRPr b="0" lang="en-US" sz="24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rite(Data);</a:t>
            </a:r>
            <a:endParaRPr b="0" lang="en-US" sz="24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512928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ader(){</a:t>
            </a:r>
            <a:endParaRPr b="0" lang="en-US" sz="24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ile(true){</a:t>
            </a:r>
            <a:endParaRPr b="0" lang="en-US" sz="24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ad(&amp;Data);</a:t>
            </a:r>
            <a:endParaRPr b="0" lang="en-US" sz="24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seData();</a:t>
            </a:r>
            <a:endParaRPr b="0" lang="en-US" sz="24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66" name="Text Box 6"/>
          <p:cNvSpPr/>
          <p:nvPr/>
        </p:nvSpPr>
        <p:spPr>
          <a:xfrm>
            <a:off x="834840" y="21337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67" name="Text Box 7"/>
          <p:cNvSpPr/>
          <p:nvPr/>
        </p:nvSpPr>
        <p:spPr>
          <a:xfrm>
            <a:off x="834840" y="25653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68" name="Text Box 9"/>
          <p:cNvSpPr/>
          <p:nvPr/>
        </p:nvSpPr>
        <p:spPr>
          <a:xfrm>
            <a:off x="4306680" y="20844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69" name="Text Box 10"/>
          <p:cNvSpPr/>
          <p:nvPr/>
        </p:nvSpPr>
        <p:spPr>
          <a:xfrm>
            <a:off x="4306680" y="25653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70" name="Text Box 13"/>
          <p:cNvSpPr/>
          <p:nvPr/>
        </p:nvSpPr>
        <p:spPr>
          <a:xfrm>
            <a:off x="834840" y="29973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71" name="Text Box 14"/>
          <p:cNvSpPr/>
          <p:nvPr/>
        </p:nvSpPr>
        <p:spPr>
          <a:xfrm>
            <a:off x="4306680" y="29973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72" name="Text Box 11"/>
          <p:cNvSpPr/>
          <p:nvPr/>
        </p:nvSpPr>
        <p:spPr>
          <a:xfrm>
            <a:off x="949320" y="4653000"/>
            <a:ext cx="82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we have 2 writer threads running concurrently</a:t>
            </a:r>
            <a:endParaRPr b="0" lang="en-US" sz="2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73" name="Text Box 12"/>
          <p:cNvSpPr/>
          <p:nvPr/>
        </p:nvSpPr>
        <p:spPr>
          <a:xfrm>
            <a:off x="949320" y="5084640"/>
            <a:ext cx="82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the 6-th step both writer threads will fall into the critical section (Write(Data) call) – this solution is incorrect</a:t>
            </a:r>
            <a:endParaRPr b="0" lang="en-US" sz="24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ample #8 – Solution #2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795240" y="1428840"/>
            <a:ext cx="40388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Mutex m=1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riter(){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(true){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epareData(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aitForSingleObject(m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rite(Data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leaseMutex(m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4986360" y="142884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ader(){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(true){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aitForSingleObject(m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ad(&amp;Data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leaseMutex(m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eData(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77" name="Text Box 10"/>
          <p:cNvSpPr/>
          <p:nvPr/>
        </p:nvSpPr>
        <p:spPr>
          <a:xfrm>
            <a:off x="662040" y="4941720"/>
            <a:ext cx="82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solution guarantees the mutual exclusion but does not provide concurrent access for several reader threads</a:t>
            </a:r>
            <a:endParaRPr b="0" lang="en-US" sz="24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ample #8 – Solution #3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658800" y="132732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Mutex m=1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ol ReadCount=0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riter(){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(true){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epareData()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aitForSingleObject(m)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rite(Data)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leaseMutex(m)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4849920" y="132732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er(){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(true){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Count ++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 ReadCount == 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aitForSingleObject(m)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(&amp;Data)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Count --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 ReadCount == 0 )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leaseMutex(m)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seData()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4731480" y="22924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8474760" y="2276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8474760" y="25369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525600" y="492912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se we have 2 reader threads and 1 writer thread running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85" name="Text Box 10"/>
          <p:cNvSpPr/>
          <p:nvPr/>
        </p:nvSpPr>
        <p:spPr>
          <a:xfrm>
            <a:off x="525600" y="5435640"/>
            <a:ext cx="864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th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h step one reader thread is in the critical section (Read(&amp;Data) call) and the writer thread is in the critical section (Write(Data) call)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8474760" y="30114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87" name="Text Box 12"/>
          <p:cNvSpPr/>
          <p:nvPr/>
        </p:nvSpPr>
        <p:spPr>
          <a:xfrm>
            <a:off x="481680" y="25797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88" name="Text Box 13"/>
          <p:cNvSpPr/>
          <p:nvPr/>
        </p:nvSpPr>
        <p:spPr>
          <a:xfrm>
            <a:off x="481680" y="27957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89" name="Text Box 14"/>
          <p:cNvSpPr/>
          <p:nvPr/>
        </p:nvSpPr>
        <p:spPr>
          <a:xfrm>
            <a:off x="481680" y="30114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ample #8 – Solution #4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801720" y="128592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Mutex m=1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ol ReadCount=0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riter(){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(true){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epareData()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aitForSingleObject(m)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rite(Data)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leaseMutex(m)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4992840" y="128592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er(){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(true){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 ReadCount == 0 )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aitForSingleObject(m)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Count ++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(&amp;Data)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Count --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 ReadCount == 0 )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leaseMutex(m)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seData()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4874040" y="2251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94" name="Text Box 7"/>
          <p:cNvSpPr/>
          <p:nvPr/>
        </p:nvSpPr>
        <p:spPr>
          <a:xfrm>
            <a:off x="8617680" y="22352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95" name="Text Box 8"/>
          <p:cNvSpPr/>
          <p:nvPr/>
        </p:nvSpPr>
        <p:spPr>
          <a:xfrm>
            <a:off x="8617680" y="24955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96" name="Text Box 9"/>
          <p:cNvSpPr/>
          <p:nvPr/>
        </p:nvSpPr>
        <p:spPr>
          <a:xfrm>
            <a:off x="4874040" y="24955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97" name="Text Box 10"/>
          <p:cNvSpPr/>
          <p:nvPr/>
        </p:nvSpPr>
        <p:spPr>
          <a:xfrm>
            <a:off x="668160" y="4773600"/>
            <a:ext cx="86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we have 2 reader threads running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98" name="Text Box 11"/>
          <p:cNvSpPr/>
          <p:nvPr/>
        </p:nvSpPr>
        <p:spPr>
          <a:xfrm>
            <a:off x="668160" y="5291280"/>
            <a:ext cx="864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the 5-th step the right  reader thread executes reading  but  the left reader thread can’t  begin reading because it is blocked on mutex.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note that this solution guarantees mutual exclusion.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99" name="Text Box 19"/>
          <p:cNvSpPr/>
          <p:nvPr/>
        </p:nvSpPr>
        <p:spPr>
          <a:xfrm>
            <a:off x="8617680" y="2754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ample #8 – Solution #5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801720" y="1357200"/>
            <a:ext cx="403848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Mutex m1=1,m2=1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ol ReadCount=0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riter(){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(true){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epareData()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aitForSingleObject(m1)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rite(Data)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leaseMutex(m1)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4992840" y="1357200"/>
            <a:ext cx="403848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er(){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(true){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aitForSingleObject(m2)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Count ++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 ReadCount == 1 )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aitForSingleObject(m1)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leaseMutex(m2)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(&amp;Data)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aitForSingleObject(m2)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Count --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 ReadCount == 0 )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leaseMutex(m1)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leaseMutex(m2)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seData()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03" name="Text Box 9"/>
          <p:cNvSpPr/>
          <p:nvPr/>
        </p:nvSpPr>
        <p:spPr>
          <a:xfrm>
            <a:off x="668160" y="5610240"/>
            <a:ext cx="86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of correct solutions (readers-preference solution)</a:t>
            </a:r>
            <a:endParaRPr b="0" lang="en-US" sz="24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ample #8 – Solution #6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795240" y="1285920"/>
            <a:ext cx="40388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Mutex m1=1,m2=1, m3=1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ol ReadCount=0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riter(){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(true){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epareData()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aitForSingleObject(m3)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aitForSingleObject(m1)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leaseMutex(m3)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rite(Data)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leaseMutex(m1)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4986360" y="128592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er(){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(true){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aitForSingleObject(m3)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aitForSingleObject(m2)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leaseMutex(m3)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Count ++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 ReadCount == 1 )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aitForSingleObject(m1)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leaseMutex(m2)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(&amp;Data)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aitForSingleObject(m2)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Count --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 ReadCount == 0 )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leaseMutex(m1)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leaseMutex(m2)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seData()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07" name="Text Box 5"/>
          <p:cNvSpPr/>
          <p:nvPr/>
        </p:nvSpPr>
        <p:spPr>
          <a:xfrm>
            <a:off x="237960" y="4429080"/>
            <a:ext cx="4857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correct solution (fair).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is solution incoming writer blocks access of new readers to the critical section.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ually this solution is fair only if semaphores preserve first-in first-out ordering when blocking and releasing threads.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ample #8 – Solution #6 – The code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272880" y="1197000"/>
            <a:ext cx="94377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ANDLE m1, m2, m3; // Semaph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Data = 0, ReadCount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WORD WINAPI Writer( LPVOID arg 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( int i = 0; i &lt; WRITER_ITERATIONS; i ++ 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aitForSingleObject(m3, INFINIT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aitForSingleObject(m1, INFINIT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leaseMutex(m3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a++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leaseMutex(m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ample #8 – Solution #6 – The code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272880" y="1197000"/>
            <a:ext cx="94377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WORD WINAPI Reader( LPVOID arg )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or( int i = 0; i &lt; READER_ITERATIONS; i ++ )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aitForSingleObject(m3, INFINIT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aitForSingleObject(m2, INFINIT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leaseMutex(m3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Count ++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 ReadCount == 1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aitForSingleObject(m1, INFINIT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leaseMutex(m2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Read Data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aitForSingleObject(m2, INFINIT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Count --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 ReadCount == 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leaseMutex(m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leaseMutex(m2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76160" y="3071880"/>
            <a:ext cx="84204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8 Practic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nchronization-2. Standard problem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28400" y="2204640"/>
            <a:ext cx="9047160" cy="4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perating Systems. Support for Parallelis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3800520" y="5593320"/>
            <a:ext cx="59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v A.V.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ing Department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ample #8 – Solution #6 – The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272880" y="1197000"/>
            <a:ext cx="94377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main(void)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ANDLE ReadersWrites[2*THREAD_COUNT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1 = CreateMutex(NULL, false, NULL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2 = CreateMutex(NULL, false, NULL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3 = CreateMutex(NULL, false, NULL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or( int i = 0; i &lt; THREAD_COUNT; i ++ )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ersWrites[2*i]   = CreateThread(NULL,0,Reader,(LPVOID)0,0,NULL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ersWrites[2*i+1] = CreateThread(NULL,0,Writer,(LPVOID)0,0,NULL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aitForMultipleObjects(2*THREAD_COUNT, ReadersWriters, true, INFINIT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loseHandle(m3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loseHandle(m2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loseHandle(m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1523520"/>
            <a:ext cx="825804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 #9 – Producers-Consumers proble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2146320" y="3962520"/>
            <a:ext cx="7099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ample #9 – Problem statemen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272880" y="1197000"/>
            <a:ext cx="94377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 cyclic buffer with N 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r threads add records to buffer (1 record by ca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mer threads remove records from buffer (1 record by ca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ads run simultaneous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"/>
          <p:cNvGrpSpPr/>
          <p:nvPr/>
        </p:nvGrpSpPr>
        <p:grpSpPr>
          <a:xfrm>
            <a:off x="1403280" y="4221000"/>
            <a:ext cx="5867280" cy="1525680"/>
            <a:chOff x="1403280" y="4221000"/>
            <a:chExt cx="5867280" cy="1525680"/>
          </a:xfrm>
        </p:grpSpPr>
        <p:grpSp>
          <p:nvGrpSpPr>
            <p:cNvPr id="319" name="Group 5"/>
            <p:cNvGrpSpPr/>
            <p:nvPr/>
          </p:nvGrpSpPr>
          <p:grpSpPr>
            <a:xfrm>
              <a:off x="3308040" y="4221000"/>
              <a:ext cx="2514600" cy="762120"/>
              <a:chOff x="3308040" y="4221000"/>
              <a:chExt cx="2514600" cy="762120"/>
            </a:xfrm>
          </p:grpSpPr>
          <p:sp>
            <p:nvSpPr>
              <p:cNvPr id="320" name="Rectangle 6"/>
              <p:cNvSpPr/>
              <p:nvPr/>
            </p:nvSpPr>
            <p:spPr>
              <a:xfrm>
                <a:off x="3308040" y="4221000"/>
                <a:ext cx="914400" cy="76212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Bernard MT Condensed"/>
                </a:endParaRPr>
              </a:p>
            </p:txBody>
          </p:sp>
          <p:sp>
            <p:nvSpPr>
              <p:cNvPr id="321" name="Rectangle 7"/>
              <p:cNvSpPr/>
              <p:nvPr/>
            </p:nvSpPr>
            <p:spPr>
              <a:xfrm>
                <a:off x="4908240" y="4221000"/>
                <a:ext cx="914400" cy="76212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Bernard MT Condensed"/>
                </a:endParaRPr>
              </a:p>
            </p:txBody>
          </p:sp>
          <p:sp>
            <p:nvSpPr>
              <p:cNvPr id="322" name="Rectangle 8"/>
              <p:cNvSpPr/>
              <p:nvPr/>
            </p:nvSpPr>
            <p:spPr>
              <a:xfrm>
                <a:off x="3308040" y="4221000"/>
                <a:ext cx="2514600" cy="7621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Bernard MT Condensed"/>
                </a:endParaRPr>
              </a:p>
            </p:txBody>
          </p:sp>
          <p:sp>
            <p:nvSpPr>
              <p:cNvPr id="323" name="Line 9"/>
              <p:cNvSpPr/>
              <p:nvPr/>
            </p:nvSpPr>
            <p:spPr>
              <a:xfrm>
                <a:off x="3536640" y="4221000"/>
                <a:ext cx="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Bernard MT Condensed"/>
                </a:endParaRPr>
              </a:p>
            </p:txBody>
          </p:sp>
          <p:sp>
            <p:nvSpPr>
              <p:cNvPr id="324" name="Line 10"/>
              <p:cNvSpPr/>
              <p:nvPr/>
            </p:nvSpPr>
            <p:spPr>
              <a:xfrm>
                <a:off x="3765240" y="4221000"/>
                <a:ext cx="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Bernard MT Condensed"/>
                </a:endParaRPr>
              </a:p>
            </p:txBody>
          </p:sp>
          <p:sp>
            <p:nvSpPr>
              <p:cNvPr id="325" name="Line 11"/>
              <p:cNvSpPr/>
              <p:nvPr/>
            </p:nvSpPr>
            <p:spPr>
              <a:xfrm>
                <a:off x="3993840" y="4221000"/>
                <a:ext cx="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Bernard MT Condensed"/>
                </a:endParaRPr>
              </a:p>
            </p:txBody>
          </p:sp>
          <p:sp>
            <p:nvSpPr>
              <p:cNvPr id="326" name="Line 12"/>
              <p:cNvSpPr/>
              <p:nvPr/>
            </p:nvSpPr>
            <p:spPr>
              <a:xfrm>
                <a:off x="4222440" y="4221000"/>
                <a:ext cx="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Bernard MT Condensed"/>
                </a:endParaRPr>
              </a:p>
            </p:txBody>
          </p:sp>
          <p:sp>
            <p:nvSpPr>
              <p:cNvPr id="327" name="Line 13"/>
              <p:cNvSpPr/>
              <p:nvPr/>
            </p:nvSpPr>
            <p:spPr>
              <a:xfrm>
                <a:off x="4451040" y="4221000"/>
                <a:ext cx="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Bernard MT Condensed"/>
                </a:endParaRPr>
              </a:p>
            </p:txBody>
          </p:sp>
          <p:sp>
            <p:nvSpPr>
              <p:cNvPr id="328" name="Line 14"/>
              <p:cNvSpPr/>
              <p:nvPr/>
            </p:nvSpPr>
            <p:spPr>
              <a:xfrm>
                <a:off x="4679640" y="4221000"/>
                <a:ext cx="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Bernard MT Condensed"/>
                </a:endParaRPr>
              </a:p>
            </p:txBody>
          </p:sp>
          <p:sp>
            <p:nvSpPr>
              <p:cNvPr id="329" name="Line 15"/>
              <p:cNvSpPr/>
              <p:nvPr/>
            </p:nvSpPr>
            <p:spPr>
              <a:xfrm>
                <a:off x="4908240" y="4221000"/>
                <a:ext cx="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Bernard MT Condensed"/>
                </a:endParaRPr>
              </a:p>
            </p:txBody>
          </p:sp>
          <p:sp>
            <p:nvSpPr>
              <p:cNvPr id="330" name="Line 16"/>
              <p:cNvSpPr/>
              <p:nvPr/>
            </p:nvSpPr>
            <p:spPr>
              <a:xfrm>
                <a:off x="5136840" y="4221000"/>
                <a:ext cx="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Bernard MT Condensed"/>
                </a:endParaRPr>
              </a:p>
            </p:txBody>
          </p:sp>
          <p:sp>
            <p:nvSpPr>
              <p:cNvPr id="331" name="Line 17"/>
              <p:cNvSpPr/>
              <p:nvPr/>
            </p:nvSpPr>
            <p:spPr>
              <a:xfrm>
                <a:off x="5365440" y="4221000"/>
                <a:ext cx="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Bernard MT Condensed"/>
                </a:endParaRPr>
              </a:p>
            </p:txBody>
          </p:sp>
          <p:sp>
            <p:nvSpPr>
              <p:cNvPr id="332" name="Line 18"/>
              <p:cNvSpPr/>
              <p:nvPr/>
            </p:nvSpPr>
            <p:spPr>
              <a:xfrm>
                <a:off x="5594040" y="4221000"/>
                <a:ext cx="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Bernard MT Condensed"/>
                </a:endParaRPr>
              </a:p>
            </p:txBody>
          </p:sp>
        </p:grpSp>
        <p:sp>
          <p:nvSpPr>
            <p:cNvPr id="333" name="Line 19"/>
            <p:cNvSpPr/>
            <p:nvPr/>
          </p:nvSpPr>
          <p:spPr>
            <a:xfrm>
              <a:off x="4298760" y="49831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rnard MT Condensed"/>
              </a:endParaRPr>
            </a:p>
          </p:txBody>
        </p:sp>
        <p:sp>
          <p:nvSpPr>
            <p:cNvPr id="334" name="Line 20"/>
            <p:cNvSpPr/>
            <p:nvPr/>
          </p:nvSpPr>
          <p:spPr>
            <a:xfrm>
              <a:off x="4984560" y="49831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rnard MT Condensed"/>
              </a:endParaRPr>
            </a:p>
          </p:txBody>
        </p:sp>
        <p:sp>
          <p:nvSpPr>
            <p:cNvPr id="335" name="Text Box 21"/>
            <p:cNvSpPr/>
            <p:nvPr/>
          </p:nvSpPr>
          <p:spPr>
            <a:xfrm>
              <a:off x="4687560" y="5378400"/>
              <a:ext cx="66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Bernard MT Condensed"/>
              </a:endParaRPr>
            </a:p>
          </p:txBody>
        </p:sp>
        <p:sp>
          <p:nvSpPr>
            <p:cNvPr id="336" name="Text Box 22"/>
            <p:cNvSpPr/>
            <p:nvPr/>
          </p:nvSpPr>
          <p:spPr>
            <a:xfrm>
              <a:off x="4015080" y="5364000"/>
              <a:ext cx="58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nd</a:t>
              </a:r>
              <a:endParaRPr b="0" lang="en-US" sz="1800" spc="-1" strike="noStrike">
                <a:solidFill>
                  <a:srgbClr val="000000"/>
                </a:solidFill>
                <a:latin typeface="Bernard MT Condensed"/>
              </a:endParaRPr>
            </a:p>
          </p:txBody>
        </p:sp>
        <p:sp>
          <p:nvSpPr>
            <p:cNvPr id="337" name="Freeform 23"/>
            <p:cNvSpPr/>
            <p:nvPr/>
          </p:nvSpPr>
          <p:spPr>
            <a:xfrm>
              <a:off x="1555560" y="4568760"/>
              <a:ext cx="181080" cy="338040"/>
            </a:xfrm>
            <a:prstGeom prst="pie">
              <a:avLst/>
            </a:prstGeom>
            <a:noFill/>
            <a:ln w="28440">
              <a:solidFill>
                <a:srgbClr val="1c1c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ernard MT Condensed"/>
              </a:endParaRPr>
            </a:p>
          </p:txBody>
        </p:sp>
        <p:sp>
          <p:nvSpPr>
            <p:cNvPr id="338" name="Freeform 24"/>
            <p:cNvSpPr/>
            <p:nvPr/>
          </p:nvSpPr>
          <p:spPr>
            <a:xfrm>
              <a:off x="1403280" y="5254560"/>
              <a:ext cx="180720" cy="338040"/>
            </a:xfrm>
            <a:prstGeom prst="pie">
              <a:avLst/>
            </a:prstGeom>
            <a:noFill/>
            <a:ln w="28440">
              <a:solidFill>
                <a:srgbClr val="1c1c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ernard MT Condensed"/>
              </a:endParaRPr>
            </a:p>
          </p:txBody>
        </p:sp>
        <p:sp>
          <p:nvSpPr>
            <p:cNvPr id="339" name="Freeform 25"/>
            <p:cNvSpPr/>
            <p:nvPr/>
          </p:nvSpPr>
          <p:spPr>
            <a:xfrm>
              <a:off x="1860480" y="4873680"/>
              <a:ext cx="180720" cy="338040"/>
            </a:xfrm>
            <a:prstGeom prst="pie">
              <a:avLst/>
            </a:prstGeom>
            <a:noFill/>
            <a:ln w="28440">
              <a:solidFill>
                <a:srgbClr val="1c1c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ernard MT Condensed"/>
              </a:endParaRPr>
            </a:p>
          </p:txBody>
        </p:sp>
        <p:sp>
          <p:nvSpPr>
            <p:cNvPr id="340" name="Freeform 26"/>
            <p:cNvSpPr/>
            <p:nvPr/>
          </p:nvSpPr>
          <p:spPr>
            <a:xfrm>
              <a:off x="7089480" y="4373640"/>
              <a:ext cx="181080" cy="33804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ernard MT Condensed"/>
              </a:endParaRPr>
            </a:p>
          </p:txBody>
        </p:sp>
        <p:sp>
          <p:nvSpPr>
            <p:cNvPr id="341" name="Freeform 27"/>
            <p:cNvSpPr/>
            <p:nvPr/>
          </p:nvSpPr>
          <p:spPr>
            <a:xfrm>
              <a:off x="6937200" y="5059440"/>
              <a:ext cx="181080" cy="33804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ernard MT Condensed"/>
              </a:endParaRPr>
            </a:p>
          </p:txBody>
        </p:sp>
        <p:sp>
          <p:nvSpPr>
            <p:cNvPr id="342" name="Line 28"/>
            <p:cNvSpPr/>
            <p:nvPr/>
          </p:nvSpPr>
          <p:spPr>
            <a:xfrm flipV="1">
              <a:off x="2165040" y="4830480"/>
              <a:ext cx="990720" cy="2286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rnard MT Condensed"/>
              </a:endParaRPr>
            </a:p>
          </p:txBody>
        </p:sp>
        <p:sp>
          <p:nvSpPr>
            <p:cNvPr id="343" name="Line 29"/>
            <p:cNvSpPr/>
            <p:nvPr/>
          </p:nvSpPr>
          <p:spPr>
            <a:xfrm>
              <a:off x="5975280" y="4678200"/>
              <a:ext cx="838080" cy="1526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ernard MT Condense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ample #9 – Solution #1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795240" y="1285920"/>
            <a:ext cx="40388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ducer(){</a:t>
            </a:r>
            <a:endParaRPr b="0" lang="en-US" sz="24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ile(true){</a:t>
            </a:r>
            <a:endParaRPr b="0" lang="en-US" sz="24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epareData();</a:t>
            </a:r>
            <a:endParaRPr b="0" lang="en-US" sz="24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t(Data);</a:t>
            </a:r>
            <a:endParaRPr b="0" lang="en-US" sz="24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46" name="Rectangle 4"/>
          <p:cNvSpPr/>
          <p:nvPr/>
        </p:nvSpPr>
        <p:spPr>
          <a:xfrm>
            <a:off x="4986360" y="128592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sumer(){</a:t>
            </a:r>
            <a:endParaRPr b="0" lang="en-US" sz="24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ile(true){</a:t>
            </a:r>
            <a:endParaRPr b="0" lang="en-US" sz="24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et(&amp;Data);</a:t>
            </a:r>
            <a:endParaRPr b="0" lang="en-US" sz="24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seData();</a:t>
            </a:r>
            <a:endParaRPr b="0" lang="en-US" sz="24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4871520" y="18194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48" name="Text Box 7"/>
          <p:cNvSpPr/>
          <p:nvPr/>
        </p:nvSpPr>
        <p:spPr>
          <a:xfrm>
            <a:off x="4871520" y="2251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8255880" y="1770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50" name="Text Box 10"/>
          <p:cNvSpPr/>
          <p:nvPr/>
        </p:nvSpPr>
        <p:spPr>
          <a:xfrm>
            <a:off x="8255880" y="2251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51" name="Text Box 11"/>
          <p:cNvSpPr/>
          <p:nvPr/>
        </p:nvSpPr>
        <p:spPr>
          <a:xfrm>
            <a:off x="806400" y="4338720"/>
            <a:ext cx="82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2 consumer threads run concurrently</a:t>
            </a:r>
            <a:endParaRPr b="0" lang="en-US" sz="2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52" name="Text Box 12"/>
          <p:cNvSpPr/>
          <p:nvPr/>
        </p:nvSpPr>
        <p:spPr>
          <a:xfrm>
            <a:off x="806400" y="4943520"/>
            <a:ext cx="820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4-th step both consumer threads will fall into their critical section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et(&amp;Data) call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we even didn’t check the existence of data to consume.</a:t>
            </a:r>
            <a:endParaRPr b="0" lang="en-US" sz="24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ample #9 – Solution #2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795240" y="1285920"/>
            <a:ext cx="40388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ducer(){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(true){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epareData();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(!Put(Data))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4986360" y="128592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umer(){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(true){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(!Get(&amp;Data))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eData();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56" name="Text Box 5"/>
          <p:cNvSpPr/>
          <p:nvPr/>
        </p:nvSpPr>
        <p:spPr>
          <a:xfrm>
            <a:off x="4871520" y="1698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57" name="Text Box 6"/>
          <p:cNvSpPr/>
          <p:nvPr/>
        </p:nvSpPr>
        <p:spPr>
          <a:xfrm>
            <a:off x="4871520" y="2082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58" name="Text Box 7"/>
          <p:cNvSpPr/>
          <p:nvPr/>
        </p:nvSpPr>
        <p:spPr>
          <a:xfrm>
            <a:off x="8430480" y="1649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59" name="Text Box 8"/>
          <p:cNvSpPr/>
          <p:nvPr/>
        </p:nvSpPr>
        <p:spPr>
          <a:xfrm>
            <a:off x="8430480" y="2082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60" name="Text Box 9"/>
          <p:cNvSpPr/>
          <p:nvPr/>
        </p:nvSpPr>
        <p:spPr>
          <a:xfrm>
            <a:off x="806400" y="4338720"/>
            <a:ext cx="82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ain, suppose 2 consumer threads run concurrently</a:t>
            </a:r>
            <a:endParaRPr b="0" lang="en-US" sz="2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61" name="Text Box 10"/>
          <p:cNvSpPr/>
          <p:nvPr/>
        </p:nvSpPr>
        <p:spPr>
          <a:xfrm>
            <a:off x="806400" y="4956120"/>
            <a:ext cx="82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the 4-th step both consumer threads will fall again into their critical sections (Get(&amp;Data) call)</a:t>
            </a:r>
            <a:endParaRPr b="0" lang="en-US" sz="24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ample #9 – Solution #3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3"/>
          <p:cNvSpPr/>
          <p:nvPr/>
        </p:nvSpPr>
        <p:spPr>
          <a:xfrm>
            <a:off x="803160" y="1285920"/>
            <a:ext cx="40388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Mutex m=1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ducer(){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(true){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epareData(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aitForSingleObject(m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t(Data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leaseMutex(m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4994280" y="128592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sumer(){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(true){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aitForSingleObject(m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(&amp;Data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leaseMutex(m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eData(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65" name="Text Box 6"/>
          <p:cNvSpPr/>
          <p:nvPr/>
        </p:nvSpPr>
        <p:spPr>
          <a:xfrm>
            <a:off x="4879440" y="2273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66" name="Text Box 7"/>
          <p:cNvSpPr/>
          <p:nvPr/>
        </p:nvSpPr>
        <p:spPr>
          <a:xfrm>
            <a:off x="4879440" y="26337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67" name="Text Box 8"/>
          <p:cNvSpPr/>
          <p:nvPr/>
        </p:nvSpPr>
        <p:spPr>
          <a:xfrm>
            <a:off x="4879440" y="29703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68" name="Text Box 10"/>
          <p:cNvSpPr/>
          <p:nvPr/>
        </p:nvSpPr>
        <p:spPr>
          <a:xfrm>
            <a:off x="669960" y="4815000"/>
            <a:ext cx="820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se, consumer thread will run first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69" name="Text Box 11"/>
          <p:cNvSpPr/>
          <p:nvPr/>
        </p:nvSpPr>
        <p:spPr>
          <a:xfrm>
            <a:off x="669960" y="5435640"/>
            <a:ext cx="856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the 3-rd step consumer thread will try to retrieve data which are not exist yet. As a result, incorrect data (or even garbage) will be used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ample #9 – Solution #4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3"/>
          <p:cNvSpPr/>
          <p:nvPr/>
        </p:nvSpPr>
        <p:spPr>
          <a:xfrm>
            <a:off x="766800" y="128592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Mutex m=1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ducer(){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(true){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epareData(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aitForSingleObject(m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(!Put(Data)){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leaseMutex(m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aitForSingleObject(m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leaseMutex(m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72" name="Rectangle 4"/>
          <p:cNvSpPr/>
          <p:nvPr/>
        </p:nvSpPr>
        <p:spPr>
          <a:xfrm>
            <a:off x="4957920" y="128592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sumer(){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(true){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aitForSingleObject(m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(!Get(&amp;Data)){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leaseMutex(m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aitForSingleObject(m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leaseMutex(m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eData(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4842720" y="23223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74" name="Text Box 7"/>
          <p:cNvSpPr/>
          <p:nvPr/>
        </p:nvSpPr>
        <p:spPr>
          <a:xfrm>
            <a:off x="592920" y="2365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75" name="Text Box 8"/>
          <p:cNvSpPr/>
          <p:nvPr/>
        </p:nvSpPr>
        <p:spPr>
          <a:xfrm>
            <a:off x="592920" y="2625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76" name="Text Box 9"/>
          <p:cNvSpPr/>
          <p:nvPr/>
        </p:nvSpPr>
        <p:spPr>
          <a:xfrm>
            <a:off x="4842720" y="2610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77" name="Text Box 10"/>
          <p:cNvSpPr/>
          <p:nvPr/>
        </p:nvSpPr>
        <p:spPr>
          <a:xfrm>
            <a:off x="417600" y="4987800"/>
            <a:ext cx="90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1 producer thread and 1 consumer thread run concurrently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78" name="Text Box 11"/>
          <p:cNvSpPr/>
          <p:nvPr/>
        </p:nvSpPr>
        <p:spPr>
          <a:xfrm>
            <a:off x="417600" y="5430960"/>
            <a:ext cx="90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CPU is always reallocated to Producer after step 7, producer will never be able to put data into the buffer.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79" name="Text Box 16"/>
          <p:cNvSpPr/>
          <p:nvPr/>
        </p:nvSpPr>
        <p:spPr>
          <a:xfrm>
            <a:off x="4842720" y="2898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80" name="Text Box 17"/>
          <p:cNvSpPr/>
          <p:nvPr/>
        </p:nvSpPr>
        <p:spPr>
          <a:xfrm>
            <a:off x="4842720" y="3186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81" name="Text Box 18"/>
          <p:cNvSpPr/>
          <p:nvPr/>
        </p:nvSpPr>
        <p:spPr>
          <a:xfrm>
            <a:off x="4842720" y="3475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ample #9 – Solution #5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801720" y="128592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Mutex m=1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er(){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(true){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epareData()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aitForSingleObject(m)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(!Put(Data)){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leaseMutex(m)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leep(0)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aitForSingleObject(m)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leaseMutex(m)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4992840" y="128592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umer(){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(true){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aitForSingleObject(m)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(!Get(&amp;Data)){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leaseMutex(m)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leep(0)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aitForSingleObject(m)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leaseMutex(m)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seData()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668160" y="5143680"/>
            <a:ext cx="864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is solution producer and consumer explicitly release CPU (finish their quant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in case of operation impossibility. This solution is correct but inefficient because it uses active waiting.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ample #9 – Solution #6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3"/>
          <p:cNvSpPr/>
          <p:nvPr/>
        </p:nvSpPr>
        <p:spPr>
          <a:xfrm>
            <a:off x="801720" y="128592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Semaphore full=0, empty=N-1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Mutex m=1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er(){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(true){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epareData()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aitForSingleObject(empty)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aitForSingleObject(m)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t(Data)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leaseMutex(m)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leaseSemaphore(full)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88" name="Rectangle 4"/>
          <p:cNvSpPr/>
          <p:nvPr/>
        </p:nvSpPr>
        <p:spPr>
          <a:xfrm>
            <a:off x="4992840" y="128592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umer(){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(true){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aitForSingleObject(full)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aitForSingleObject(m)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(&amp;Data)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leaseMutex(m)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leaseSemaphore(empty)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seData()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89" name="Text Box 6"/>
          <p:cNvSpPr/>
          <p:nvPr/>
        </p:nvSpPr>
        <p:spPr>
          <a:xfrm>
            <a:off x="668160" y="5059440"/>
            <a:ext cx="86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solution is correct.</a:t>
            </a:r>
            <a:endParaRPr b="0" lang="en-US" sz="24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ample #9 – Solution #7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3"/>
          <p:cNvSpPr/>
          <p:nvPr/>
        </p:nvSpPr>
        <p:spPr>
          <a:xfrm>
            <a:off x="801720" y="128592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Semaphore full=0, empty=N-1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Mutex mp=1, mc=1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er(){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(true){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epareData()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aitForSingleObject(empty)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aitForSingleObject(mp)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t(Data)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leaseMutex(mp)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leaseSemaphore(full)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4992840" y="128592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umer(){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(true){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aitForSingleObject(full)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aitForSingleObject(mc)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(&amp;Data)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leaseMutex(mc)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leaseSemaphore(empty)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seData()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93" name="Text Box 6"/>
          <p:cNvSpPr/>
          <p:nvPr/>
        </p:nvSpPr>
        <p:spPr>
          <a:xfrm>
            <a:off x="668160" y="5059440"/>
            <a:ext cx="8642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solution is correct too. It can be more efficient then previous one because it uses separate and independent mutexes for producers and consumers.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272880" y="1197000"/>
            <a:ext cx="94377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synchronization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#8 – Readers-Writers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#9 – Producers-Consumers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ample #9 – Solution #6 – The code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272880" y="1197000"/>
            <a:ext cx="94377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ANDLE m, full, empt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WORD WINAPI Producer( LPVOID arg )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aitForSingleObject(empty, INFINIT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aitForSingleObject(m, INFINIT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Put value to the 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leaseMutex(m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leaseSemaphore(full, 1, NULL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WORD WINAPI Consumer( LPVOID arg )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aitForSingleObject(full, INFINIT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aitForSingleObject(m, INFINIT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Get value from the 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leaseMutex(m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leaseSemaphore(empty, 1, NULL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ample #9 – Solution #6 – The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272880" y="1197000"/>
            <a:ext cx="94377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main(void)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ANDLE ProdsCons[2*THREAD_COUNT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ull = CreateSemaphore(NULL,0,BUFFER_SIZE,NULL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mpty= CreateSemaphore(NULL,BUFFER_SIZE,BUFFER_SIZE,NULL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 = CreateMutex(NULL, false, NULL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or( int i = 0; i &lt; THREAD_COUNT; i ++ )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rodsCons[2*i]   = CreateThread(NULL,0,Producer,(LPVOID)0,0,NULL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rodsCons[2*i+1] = CreateThread(NULL,0,Consumer,(LPVOID)0,0,NULL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aitForMultipleObjects(2*THREAD_COUNT, ProdsCons, true, INFINIT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loseHandle(m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loseHandle(empt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loseHandle(full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lf-training problem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272880" y="1197000"/>
            <a:ext cx="94377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a program which solves a Readers-Writers problem for UNIX operat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a program which solves a Producers-Consumers problem for UNIX operat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y the Dining philosophers problem and write a program which solves it for Windows or UN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iteratu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272880" y="1197000"/>
            <a:ext cx="94377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raham Silberschatz, Peter B. Galvin and Greg Gagne. Operating System Concepts. 8-th Ed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rew S. Tanenbaum. Modern Operating Systems (3rd Edi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 Russinovich, David Solomon and Alex Ionescu. Windows Internals (5th Edition) (Developer Refere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A. Solomon, Mark Russinovich. The Windows Operating System Internals Curriculum Resource 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uthor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272880" y="1197000"/>
            <a:ext cx="94377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ey Vladimirovich Linev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ational Mathematics and Cybernetics Faculty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artment of Software Engineering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Chie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n@unn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360" y="1523520"/>
            <a:ext cx="825804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indows synchronization mechanis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2146320" y="3962520"/>
            <a:ext cx="7099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ndows synchronization (waitable) object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72880" y="1197000"/>
            <a:ext cx="943776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ynchronization object is an object whose handle can be specified in one of the Wait functions to coordinate the execution of multiple th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be in “signaled” or “non-signaled” state. We can exit wait function if the waitable object has switched to “signaled”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238400" y="3500280"/>
          <a:ext cx="5715000" cy="2400480"/>
        </p:xfrm>
        <a:graphic>
          <a:graphicData uri="http://schemas.openxmlformats.org/drawingml/2006/table">
            <a:tbl>
              <a:tblPr/>
              <a:tblGrid>
                <a:gridCol w="2857320"/>
                <a:gridCol w="285768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aph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t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 not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ole inp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itable ti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y resource not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ndows synchronization (waitable) objec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272880" y="1197000"/>
            <a:ext cx="9437760" cy="66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led” states for some object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80880" y="2197080"/>
          <a:ext cx="9001080" cy="2803680"/>
        </p:xfrm>
        <a:graphic>
          <a:graphicData uri="http://schemas.openxmlformats.org/drawingml/2006/table">
            <a:tbl>
              <a:tblPr/>
              <a:tblGrid>
                <a:gridCol w="1714680"/>
                <a:gridCol w="72864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state is set to “non-signaled” while the process is running, and set to “signaled” when the process termina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state is set to “non-signaled” while the thread is running, and set to “signaled” when the thread termina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t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state is set to “signaled” when it is not owned by any thread, and “non-signaled” when it is own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aph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state is set to “signaled” when semaphore value is greater than zero, and “non-signaled” when its value is ze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ait functions (~15 in all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72880" y="1197000"/>
            <a:ext cx="94377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ait functions does not return until the specified criteria have been m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ype of wait function determines the set of criteria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pecified object(s) is(are) in the signaled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ime-out interval elap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use input for waiting thread i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-output for the thread was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nchronous procedure call shall be served by waiting th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WORD WaitForSingleObject(HANDLE hObject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WORD dwMilliseconds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aitForSingleOb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272880" y="1197000"/>
            <a:ext cx="94377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WORD WaitForSingleObject(HANDLE hObject, DWORD dwMse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WORD dw = WaitForSlngleObject(hProcess, 5000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 (dw)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WAIT_OBJECT_0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process was exited/termin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WAIT_TIMEO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process was not finished in 5000 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WAIT_FAIL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Incorrect Wait function call (wrong HANDLE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aitForMultipleObjec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72880" y="1197000"/>
            <a:ext cx="94377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WORD WaitForMultipleObjects( DWOHD dwCount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 HANDLE* phObjects, BOOL fWaitAll, DWORD dwMsec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wCount must be &lt;= MAXIMUM_WAIT_OBJECTS (=6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bjects – pointer to array of HANDLEs to waitable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WaitAll – if set to false, will wait 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bject switched to “signaled” state; if set to true, will wait 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bWaitAll is false, the return value minus WAIT_OBJECT_0 is phObjects array index of the object that satisfied the w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wMsec – the time-out interval, in milli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INITE means that function will return only when the specified object(s) is(are) signa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4T10:27:56Z</dcterms:created>
  <dc:creator>Alexey V. Linev</dc:creator>
  <dc:description/>
  <dc:language>en-US</dc:language>
  <cp:lastModifiedBy>Alexey V. Liniov</cp:lastModifiedBy>
  <dcterms:modified xsi:type="dcterms:W3CDTF">2014-12-05T03:19:31Z</dcterms:modified>
  <cp:revision>2565</cp:revision>
  <dc:subject>Synchronization-2. Standard problems.</dc:subject>
  <dc:title>Operating Systems, Support for Parallelism, 08 Practice</dc:title>
</cp:coreProperties>
</file>